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5145088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70360" y="-36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70360" y="947844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79F5-E06D-4F35-80EB-EFD1960071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A207-D7CF-4FD0-A73A-F51B85B49D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A3D3-20C9-48AA-98CD-3E2721D7AD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DF53-11D1-4C99-9921-61D722A2AF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7267-E33D-4CB5-A4EE-F4ADD1324B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8E54-0697-4661-88FE-4B76ECC74B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8CFF-F6D9-4CEC-A418-E40A1735F13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BCC6-0363-49D5-B8E2-9C60758195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82DB-7B47-491E-8866-5D3917556E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6458-A4A3-430C-B8D3-B2FA8D01E2C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D32D-3941-46BD-9351-349AA39D74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0F03-BB24-4B31-BB6D-FB908DC24D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8D1-9F57-429A-8BB6-AFDAD0D1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FD4-2004-4FAE-9C93-8543C849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2085-3093-4D1E-B5C4-2D286457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D85-CD6D-42EC-BD1E-859C2FDA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A851-CBE3-4A97-92C3-3E699325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50D6-1A68-423C-A9A5-EA6B76B1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48BA-C93B-4F7F-8A15-75369CD8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CE12-E629-43F5-B079-094107FA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4EC3-1CEB-49E1-B6B5-FD2693C5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3140-0244-4A0F-ACD6-B79740F3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1416-0B7B-4E3F-AD61-B0280EA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12B-108A-491E-B2E6-BD64DA5C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2DC0-08C8-44C0-8727-8903C5FC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E4F1-29D5-47AB-8862-F6CC7897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6363-20D9-4132-A2FC-E840FB65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8CC7-E7D3-40F7-A5D9-566FC0A0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E0F8-497F-44E4-8829-B445A455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70F42-FE7A-4664-BA5D-25CD86EA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69C3-DD6C-42E0-96C2-CC2CF9E3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7AEBD-A161-4AB0-9ED7-862581DB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24D7B-6BB2-4E99-87FC-E097AEF2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2DD49-E488-4859-BBC2-33E043EF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472-CAF0-4508-8B08-0F1C4AD9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AEEF-1536-4C40-B657-AA859D21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A48D7-E8F4-4853-B441-5C862A7E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112F-567B-4B72-88AA-48CCBCD5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D16FA-9B6A-477D-B21A-3D38BA5D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A927D-1262-4405-B16F-92C093D2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4C624-01A2-4A16-AF14-AB5DA9FC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4F462-F556-4657-857C-DB0F5C8C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7FC-849D-4E4F-964C-602D6FA1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B99-A47F-4D1D-A40E-11092407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07A-4392-4376-8535-FE70232E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223-8F01-45DF-B7E9-26416887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852-D829-4068-BD4D-153A593F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CAD-6FA8-4D37-A272-D26E60AE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7E9C-5CE8-4E9F-A5D9-7A32A1E05E1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5707-42B8-4E6E-ACF8-64E6C6DE63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A166-679E-4E18-9679-48FE451291A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C29D-E250-43BE-AD0D-8DF18F4B43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2CB8-2EF3-4E33-A5B8-6800FA473E33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E8BB-364E-4B95-BC5D-4DB661194F37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7"/>
          <p:cNvSpPr/>
          <p:nvPr/>
        </p:nvSpPr>
        <p:spPr>
          <a:xfrm>
            <a:off x="468360" y="1130400"/>
            <a:ext cx="8280360" cy="32630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результаты исследования компетенций учителей математики,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ргей Владимирович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нчен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 Центра националь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еждународных исследований качества образов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ого государственного бюджетного учрежде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Федеральный институт оценки качества образ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826920" y="1131840"/>
            <a:ext cx="756144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 уровневой градации (одновременно с модернизацией профессионального стандарта педаго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еханизмов диагностики и профессиональной помощи на основе результатов оценки, в том числе, на основе адресного повышения квалифик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методик оценки психолого-педагогических компете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енно-профессиональное об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395280" y="19512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Дальнейшие ш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2"/>
          <p:cNvSpPr/>
          <p:nvPr/>
        </p:nvSpPr>
        <p:spPr>
          <a:xfrm>
            <a:off x="539640" y="2066760"/>
            <a:ext cx="8209080" cy="45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7"/>
          <p:cNvSpPr/>
          <p:nvPr/>
        </p:nvSpPr>
        <p:spPr>
          <a:xfrm>
            <a:off x="250920" y="195120"/>
            <a:ext cx="8642160" cy="100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Источники информации об уровне компетенций учителей.</a:t>
            </a:r>
            <a:br>
              <a:rPr sz="2000"/>
            </a:b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Федеральн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2"/>
          <p:cNvSpPr/>
          <p:nvPr/>
        </p:nvSpPr>
        <p:spPr>
          <a:xfrm>
            <a:off x="4951440" y="250020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5135400" y="2535120"/>
            <a:ext cx="19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ые сравнительны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8"/>
          <p:cNvSpPr/>
          <p:nvPr/>
        </p:nvSpPr>
        <p:spPr>
          <a:xfrm>
            <a:off x="2071800" y="250020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2451240" y="25351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0"/>
          <p:cNvSpPr/>
          <p:nvPr/>
        </p:nvSpPr>
        <p:spPr>
          <a:xfrm>
            <a:off x="3079800" y="379872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459240" y="383364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2"/>
          <p:cNvSpPr/>
          <p:nvPr/>
        </p:nvSpPr>
        <p:spPr>
          <a:xfrm>
            <a:off x="1063800" y="1197000"/>
            <a:ext cx="237636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1442880" y="1231920"/>
            <a:ext cx="16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4"/>
          <p:cNvSpPr/>
          <p:nvPr/>
        </p:nvSpPr>
        <p:spPr>
          <a:xfrm>
            <a:off x="4016520" y="1197000"/>
            <a:ext cx="237636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395960" y="12319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6"/>
          <p:cNvSpPr/>
          <p:nvPr/>
        </p:nvSpPr>
        <p:spPr>
          <a:xfrm>
            <a:off x="5940360" y="3798720"/>
            <a:ext cx="237672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6105600" y="3808440"/>
            <a:ext cx="209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 компетенций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7"/>
          <p:cNvSpPr/>
          <p:nvPr/>
        </p:nvSpPr>
        <p:spPr>
          <a:xfrm>
            <a:off x="250920" y="195120"/>
            <a:ext cx="8642160" cy="794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Разработка модели оценки компетенций учителей. 1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частии ассоциаций учителей истории, математики,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"/>
          <p:cNvSpPr/>
          <p:nvPr/>
        </p:nvSpPr>
        <p:spPr>
          <a:xfrm>
            <a:off x="1835280" y="1308240"/>
            <a:ext cx="5329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2214720" y="1343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российское исслед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учителя истор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015 г., 6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"/>
          <p:cNvSpPr/>
          <p:nvPr/>
        </p:nvSpPr>
        <p:spPr>
          <a:xfrm>
            <a:off x="1835280" y="2486160"/>
            <a:ext cx="5329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2041560" y="252108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арительное исследование компетенций учителей русского языка и математики (осень 2015 г., 2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7"/>
          <p:cNvSpPr/>
          <p:nvPr/>
        </p:nvSpPr>
        <p:spPr>
          <a:xfrm>
            <a:off x="1835280" y="3665520"/>
            <a:ext cx="5329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2016000" y="37004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е компетенций учителей русского языка, литературы и математики (весна-осень 2016 г., 20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1"/>
          <p:cNvSpPr/>
          <p:nvPr/>
        </p:nvSpPr>
        <p:spPr>
          <a:xfrm>
            <a:off x="395280" y="195120"/>
            <a:ext cx="820908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Оценка компетенций как часть Национальной системы учительс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2944800" y="2316240"/>
            <a:ext cx="2930400" cy="142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С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855720" y="1382760"/>
            <a:ext cx="208908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ценка компетен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468360" y="2682720"/>
            <a:ext cx="180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867280" y="1190520"/>
            <a:ext cx="25923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ы профессиональной помощи и 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6732720" y="2546280"/>
            <a:ext cx="230328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среды профессионального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755640" y="4032360"/>
            <a:ext cx="20876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ы стиму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6389640" y="4226040"/>
            <a:ext cx="165744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трелка вправо 1"/>
          <p:cNvSpPr/>
          <p:nvPr/>
        </p:nvSpPr>
        <p:spPr>
          <a:xfrm>
            <a:off x="2427120" y="2827440"/>
            <a:ext cx="344520" cy="426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право 10"/>
          <p:cNvSpPr/>
          <p:nvPr/>
        </p:nvSpPr>
        <p:spPr>
          <a:xfrm rot="2952600">
            <a:off x="3095640" y="1670040"/>
            <a:ext cx="649440" cy="4269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12"/>
          <p:cNvSpPr/>
          <p:nvPr/>
        </p:nvSpPr>
        <p:spPr>
          <a:xfrm rot="18913200">
            <a:off x="3000240" y="3889080"/>
            <a:ext cx="649440" cy="42840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право 13"/>
          <p:cNvSpPr/>
          <p:nvPr/>
        </p:nvSpPr>
        <p:spPr>
          <a:xfrm rot="13497000">
            <a:off x="5647680" y="3730320"/>
            <a:ext cx="647640" cy="4269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14"/>
          <p:cNvSpPr/>
          <p:nvPr/>
        </p:nvSpPr>
        <p:spPr>
          <a:xfrm rot="10800000">
            <a:off x="6192720" y="2833200"/>
            <a:ext cx="395280" cy="427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право 15"/>
          <p:cNvSpPr/>
          <p:nvPr/>
        </p:nvSpPr>
        <p:spPr>
          <a:xfrm rot="8266800">
            <a:off x="5093640" y="1660680"/>
            <a:ext cx="647640" cy="4269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7"/>
          <p:cNvSpPr/>
          <p:nvPr/>
        </p:nvSpPr>
        <p:spPr>
          <a:xfrm>
            <a:off x="755640" y="1303200"/>
            <a:ext cx="7632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ая подготов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обировано в 2015-2016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ка преподавания, в том числе, объективное оценивание уровня подготовки обучаю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обировано в 2015-2016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о-педагогические 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ланируется апробировать в 2017 г. различные формы оценки, в том числе, оценку реальной работы учителя на уроке, которая может быть реализована на уровне О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620640" y="371520"/>
            <a:ext cx="8064720" cy="100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Основные группы компетенций (в планируемой модели), </a:t>
            </a:r>
            <a:br>
              <a:rPr sz="2000"/>
            </a:b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в соответствии с Профессиональным стандартом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324000" y="11916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192"/>
                </a:solidFill>
                <a:latin typeface="Cambria"/>
              </a:rPr>
              <a:t>Исследование компетенций учителей, апрель-май 2016 года.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Диаграмма 1" descr=""/>
          <p:cNvPicPr/>
          <p:nvPr/>
        </p:nvPicPr>
        <p:blipFill>
          <a:blip r:embed="rId1"/>
          <a:srcRect l="0" t="0" r="-38" b="0"/>
          <a:stretch/>
        </p:blipFill>
        <p:spPr>
          <a:xfrm>
            <a:off x="0" y="858960"/>
            <a:ext cx="3995640" cy="2154240"/>
          </a:xfrm>
          <a:prstGeom prst="rect">
            <a:avLst/>
          </a:prstGeom>
          <a:ln w="0">
            <a:noFill/>
          </a:ln>
        </p:spPr>
      </p:pic>
      <p:pic>
        <p:nvPicPr>
          <p:cNvPr id="169" name="Диаграмма 1" descr=""/>
          <p:cNvPicPr/>
          <p:nvPr/>
        </p:nvPicPr>
        <p:blipFill>
          <a:blip r:embed="rId2"/>
          <a:stretch/>
        </p:blipFill>
        <p:spPr>
          <a:xfrm>
            <a:off x="4427640" y="773280"/>
            <a:ext cx="4392360" cy="2323800"/>
          </a:xfrm>
          <a:prstGeom prst="rect">
            <a:avLst/>
          </a:prstGeom>
          <a:ln w="0">
            <a:noFill/>
          </a:ln>
        </p:spPr>
      </p:pic>
      <p:pic>
        <p:nvPicPr>
          <p:cNvPr id="170" name="Диаграмма 1" descr=""/>
          <p:cNvPicPr/>
          <p:nvPr/>
        </p:nvPicPr>
        <p:blipFill>
          <a:blip r:embed="rId3"/>
          <a:srcRect l="-195" t="-4155" r="-816" b="-3377"/>
          <a:stretch/>
        </p:blipFill>
        <p:spPr>
          <a:xfrm>
            <a:off x="2195640" y="3103560"/>
            <a:ext cx="4578120" cy="1892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395280" y="5076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едметная компете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2162160" y="915840"/>
            <a:ext cx="1911240" cy="4734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649760" y="933480"/>
            <a:ext cx="32004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,2 %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ей математик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справились с зад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95640" y="99540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ите урав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382680" y="1754280"/>
            <a:ext cx="407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аком предложении выделенное слово пишется слит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4643280" y="1727280"/>
            <a:ext cx="4249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7,2 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ителей русского языка выбрали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Вот уже несколько минут Иван напряженно всматривался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даль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надеясь разглядеть на горизонте пароходный д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439560" y="3193920"/>
            <a:ext cx="396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а цитата из письм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девушка сама неглупая предпочитает дурака умному человеку; и этот человек, разумеется, в противуречии с обществом его окружающим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те произведение, о котором идет речь и его ав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4668840" y="3144960"/>
            <a:ext cx="3745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8,3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ей литературы не узнали комедию «Горе от ума» по приведенной цита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1042920" y="1417680"/>
            <a:ext cx="676908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каждому из предметов значительная доля учителей показала относительно невысокие результаты выполнения стандартных учебных зад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констатировать достаточно низкий уровень методических компетенций учителей, неумение объяснить свои действия, спланировать учебную работу в соответствии с конкретной задач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явлен недостаточный уровень владения приемами объективного стандартизированного оценивания результатов обучения, что может препятствовать эффективному выполнению учителями их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395280" y="19512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Некоторые выводы об уровне компетенций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179280" y="843120"/>
            <a:ext cx="8640720" cy="40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дифференцировать уровень компетенций учителей по всем заявленным блокам, однако имеет свои ограничения: не все виды компетенций можно оценить задан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ные в исследовании подходы могут применяться как для оценки компетенций учителей в рамках аттестационных процедур, так и для диагностики с целью организации адресного повышения квалификации и оказания профессиональной помощи учителю на основе результатов выполнения им диагностическ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обеспечить единые для всех регионов подходы к оценке уровня квалификации уч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можно развитие апробированного подхода в направлении введения уровневой градации результатов диагностики одновременно с модернизацией профессионального стандарта педаг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обеспечить максимальную вариативность заданий, основанных на педагогических ситуациях, чтобы учитель имел возможность проявить свои компетенции в ситуации, близкой к его практической раб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рассмотреть вопрос расширения спектра оцениваемых компетенций путем включения оценки психолого-педагогических компетенций учителя, осуществляемой, в том числе, с привлечением региональных методических объединений или на школьном уров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395280" y="195120"/>
            <a:ext cx="820908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Некоторые выводы о модели оценки компетенций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2:04:26Z</dcterms:created>
  <dc:creator>danilov@halfbudget.com</dc:creator>
  <dc:description/>
  <dc:language>en-US</dc:language>
  <cp:lastModifiedBy>Сергей Станченко</cp:lastModifiedBy>
  <cp:lastPrinted>2014-06-23T12:14:10Z</cp:lastPrinted>
  <dcterms:modified xsi:type="dcterms:W3CDTF">2016-10-28T08:17:18Z</dcterms:modified>
  <cp:revision>657</cp:revision>
  <dc:subject/>
  <dc:title>Презентация PowerPoint</dc:title>
</cp:coreProperties>
</file>