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384984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0920" cy="369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09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3"/>
          </p:nvPr>
        </p:nvSpPr>
        <p:spPr>
          <a:xfrm>
            <a:off x="3849840" y="9378720"/>
            <a:ext cx="29383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2C1BF-5B55-4DA2-ACDD-FF4B73416A9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1"/>
          <p:cNvSpPr/>
          <p:nvPr/>
        </p:nvSpPr>
        <p:spPr>
          <a:xfrm>
            <a:off x="3849840" y="9379080"/>
            <a:ext cx="29383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3936C-D2CD-4D24-9A0A-9EEEDCE0B62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79" name="Text Box 2"/>
          <p:cNvSpPr/>
          <p:nvPr/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4D149-FC9A-43B8-9383-5D829C90A6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A7190-AB31-466D-98FC-8D3C77FA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5E805-C043-408A-A29B-E4226C12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BBF57-A8B1-4286-BA4A-69C7C935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1027C-F85B-423A-90A5-3F36B0D25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C08D5-D1BE-439E-88B9-991D51F9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31279-B37E-41BF-BF6C-FD90E9AF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B57E8-E8B8-4561-A9EC-53098BEE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86707-F892-4248-AFCE-EB537EDF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4594D-EA84-45EF-89DD-AA8FE5E9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2FBC4-D30E-4A8F-B82C-02ABE037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CF895-F2B5-4BFD-AE14-4B8947A944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6415-1F0E-4061-8B11-B42DD4AD6F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6C3D-3693-4D1E-9A5C-7B84705C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6087-45A5-4FDB-8811-A32D364A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99E6-F626-4AE1-851D-329DD57E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BA2D-0B19-44DE-91D7-6784666A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E4B9-9165-454E-86A5-BB5D7C40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5D6F-14AE-4D92-BA5E-19334DC9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B211-D95C-4D5C-AE91-F2D5A4B6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35C9-C9BA-484C-89C3-740887B9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9E90-5B6C-4204-9702-7163D906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2AE1-8C72-4D7B-8CA0-5FFCCD26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3EA5-FC84-44E1-A9CB-134C7DB9CD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0371E4-B42D-44CC-A737-F1ECC83AD5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33341-7E57-43C6-B9F4-3B8387E6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35BBE-7ADE-4E86-9CCD-5F1027F5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B3029-0786-4629-A31C-0FEAADF5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AB42D-CB2F-4239-9471-41B73E76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81C06-BFF5-42B1-9888-3272FD83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06EA5-A741-4997-9D7C-9C713FA4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6F672-6E60-4960-8632-D55525A6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25C6A-B12E-4467-8B9F-B73D708F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37C6F7-E1AA-43A0-AF58-B42BBCC0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D51D2-F205-4BAE-8D65-DA5A866F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0469D-7E18-493F-83F8-BDEF27CB08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0CB739-568C-4972-8601-E0E5E040B4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60A5CD-D137-4171-B8B5-D725599D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823B38-89CD-4DB7-B49F-D42A63FB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D5DEF3-8100-424D-B6DA-8FEE664C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8EA06C-3405-45C7-A3C9-702882A2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6BC676-C5D7-41D0-93BF-3B151735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DBAAE6-CF48-448D-AFE7-73D27788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892394-F8CE-4D2E-9C42-CD92D036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8A8C17-EE2A-4721-B65F-F39048F4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7ACE03-7FCB-4D31-ACB8-B9ECE4F3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6013E3-586D-4EA7-B2CD-CB44FF22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C91F4C-93F7-430C-8CB8-C1DD2EB82B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342B5-7610-4624-923A-F1FB853B68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01EB8-6179-476E-88F3-20B5BD2D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BDFBA-A123-428D-A024-4D8C3C19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1F749-14C5-4B2A-BAEF-4275F64A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A387A-A474-4132-A704-250B8AC2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095DE-C939-4838-826B-83330763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1EDAA-59DA-45C4-A561-186D2F6A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DDB5E-CE9E-4DA5-A99A-96185158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D6807-3FF8-4CE0-BA3A-18864F9D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DC018-87DE-4A29-AB86-AD493B33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53A7A-F9D5-4509-B4BC-B0DC78AC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35305-D145-49A3-85AD-37659CD697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24A3E-7661-42A4-8EB9-0400F93FF955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FBD71-95BA-4373-8FEC-7FC3A0E00E61}" type="datetime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3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B3727-C37C-4273-B581-029FFE1DD321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Num" idx="4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1E7BE-F149-4391-AD44-5611F49A0E65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041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1143000" y="731520"/>
            <a:ext cx="639288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0" y="3867120"/>
            <a:ext cx="9144000" cy="29908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990880"/>
              <a:gd name="textAreaBottom" fmla="*/ 2991240 h 2990880"/>
            </a:gdLst>
            <a:ahLst/>
            <a:rect l="textAreaLeft" t="textAreaTop" r="textAreaRight" b="textAreaBottom"/>
            <a:pathLst>
              <a:path w="9144000" h="2990850">
                <a:moveTo>
                  <a:pt x="0" y="0"/>
                </a:moveTo>
                <a:lnTo>
                  <a:pt x="25400" y="0"/>
                </a:lnTo>
                <a:lnTo>
                  <a:pt x="25400" y="8309"/>
                </a:lnTo>
                <a:lnTo>
                  <a:pt x="0" y="830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0" y="0"/>
            <a:ext cx="9144000" cy="38671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867120"/>
              <a:gd name="textAreaBottom" fmla="*/ 3867480 h 3867120"/>
            </a:gdLst>
            <a:ahLst/>
            <a:rect l="textAreaLeft" t="textAreaTop" r="textAreaRight" b="textAreaBottom"/>
            <a:pathLst>
              <a:path w="9144000" h="3867150">
                <a:moveTo>
                  <a:pt x="0" y="0"/>
                </a:moveTo>
                <a:lnTo>
                  <a:pt x="25400" y="0"/>
                </a:lnTo>
                <a:lnTo>
                  <a:pt x="25400" y="10741"/>
                </a:lnTo>
                <a:lnTo>
                  <a:pt x="0" y="1074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5294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0" y="2652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33640" y="2172960"/>
            <a:ext cx="59580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022120" y="4606560"/>
            <a:ext cx="596268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5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03C5A-D80D-41FE-A8BB-1C29E9E735EA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EF9A9-C920-47A7-990C-88D47F66D734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206CC-C5F2-463E-90A1-6E310634D9DE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ldNum" idx="8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2EDDC-563D-4E9B-AA68-A5937CB412C1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041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9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39198-330D-4B4A-963F-71341318D1D5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0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C76FB-F211-4051-BD26-2C5E2F298D77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1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1AD43-924B-46CC-A854-E6C33E3CFDB2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BBA86-F4A0-45FF-AFAF-A96EA5E4792C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 подходах к разработке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всероссийских проверочных работ 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о пяти предметам 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для обучающихся 11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484360" y="566064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Демидова М.Ю., руководитель Центра педагогических измерений ФГБНУ «ФИП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значимые элементы содерж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2536920" y="5084640"/>
            <a:ext cx="4535280" cy="15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>
            <a:off x="324000" y="1563840"/>
            <a:ext cx="4446360" cy="265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2" name="Picture 5" descr=""/>
          <p:cNvPicPr/>
          <p:nvPr/>
        </p:nvPicPr>
        <p:blipFill>
          <a:blip r:embed="rId3"/>
          <a:stretch/>
        </p:blipFill>
        <p:spPr>
          <a:xfrm>
            <a:off x="4211640" y="3111480"/>
            <a:ext cx="4481640" cy="18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71280" y="128160"/>
            <a:ext cx="7861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ы научного позн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3640" y="1273320"/>
            <a:ext cx="3961080" cy="53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324000" y="4659480"/>
            <a:ext cx="4432320" cy="200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6" name="Прямоугольник 2"/>
          <p:cNvSpPr/>
          <p:nvPr/>
        </p:nvSpPr>
        <p:spPr>
          <a:xfrm>
            <a:off x="466560" y="155736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Понимание фундаментальных опы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Самостоятельное планирование исследова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контекст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559040" cy="46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4481640" y="2897280"/>
            <a:ext cx="4576680" cy="72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0" name="Picture 4" descr=""/>
          <p:cNvPicPr/>
          <p:nvPr/>
        </p:nvPicPr>
        <p:blipFill>
          <a:blip r:embed="rId3"/>
          <a:stretch/>
        </p:blipFill>
        <p:spPr>
          <a:xfrm>
            <a:off x="4500720" y="3943440"/>
            <a:ext cx="4557600" cy="222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и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00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контролируют степень овладения знаниями и умениями базового курса биологии и проверяют сформированность у выпускников практико-ориентированной биологической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Разделы курса биологии: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«Биология как наука. Методы научного познания», «Клетка», «Организм», «Вид», «Экосистемы», «Организм человека и его здоровь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оверка групп умений: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своение понятийного аппарата курса би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методологическими умен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именение знаний при объяснении биологических процессов, явлений, а также решении элементарных биологически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умениями по работе с информацией биологического содерж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500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значимые элементы содерж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348000" y="3906720"/>
            <a:ext cx="5602320" cy="276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179280" y="1457280"/>
            <a:ext cx="534348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500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ктико-ориентированное содержание заданий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4788000" y="1550880"/>
            <a:ext cx="4130640" cy="51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8" name="Picture 3" descr=""/>
          <p:cNvPicPr/>
          <p:nvPr/>
        </p:nvPicPr>
        <p:blipFill>
          <a:blip r:embed="rId2"/>
          <a:stretch/>
        </p:blipFill>
        <p:spPr>
          <a:xfrm>
            <a:off x="331920" y="3651120"/>
            <a:ext cx="4294080" cy="30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Хи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8000" y="1700280"/>
            <a:ext cx="79945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ключены задания по содержательным блокам: «Теоретические основы химии», «Неорганическая химия», «Органическая химия», «Методы познания в хими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с кратким ответом проверяют на базовом уровне усвоение большинства элементов содержания, изучаемых в рамках основных тем курса химии 10-11 кла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с развернутым ответом проверяют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ставлять уравнения реакций, подтверждающих свойства веществ и/или взаимосвязь различных классов ве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бъяснять обусловленность свойств и способов получения веществ их составом и строение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ычислять массу или объем веществ, участвующих в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е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360" y="1484280"/>
            <a:ext cx="82072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71760" indent="-335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Источники географическ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Миров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иродопользование и гео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Регионы и страны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Географ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1760" indent="-335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 работе провер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нание географических явлений и процессов в геосферах и географических особенностей природы населения и хозяйства отдельных территор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анализировать географическую информацию, представленную в различных форм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пособность применять полученные в школе географические знания для объяснения различных событий и явлений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1760" indent="-335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бликация доку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00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убликация документов</a:t>
            </a: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, регламентирующих разработку ВПР-11 по пяти предмет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писания всероссийских провероч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Кодификаторы проверяемых элементов содержания и требований к уровню подготовки выпуск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бразцы всероссийских провероч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r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конец ноября 2016 года, сайт ФГБНУ «ФИП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r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 ВПР не требует организации специальной подготов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380880" y="388620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826920" y="2637000"/>
            <a:ext cx="7604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1e4649"/>
                </a:solidFill>
                <a:latin typeface="Garamond"/>
              </a:rPr>
              <a:t>СПАСИБО ЗА ВНИМАНИ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18920" y="7560"/>
            <a:ext cx="676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Р-11 в 2017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539640" y="1484280"/>
            <a:ext cx="813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Распоряжение Рособрнадзора №2322-05 от 30.08.201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«Об утверждении графиков проведения мероприятий, направленных на исследование качества образования на 2016-2017 год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График проведения всероссийских проверочных работ в 11 класс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476360" y="3789360"/>
          <a:ext cx="6095880" cy="2224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Предме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Дата прове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апрел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апрел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ма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ма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мая 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дура подготовки вариантов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Разработка проекта кодификатора, описания всероссийской проверочной работы по предмету и образца вариан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Обсуждение в фокус-групп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Обсуждение в профессиональном сообществе, экспертиза документов, регламентирующих разработку ВП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Публикация описаний, кодификаторов и образцов вариан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Разработка вариантов ВПР по 5 предметам, проведение содержательных и тестологических экспертиз. Подготовка оригинал-маке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подходы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разработке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1. Назначение В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ПР-11 предназначена для итоговой оценки учебной подготовки выпускников, изучавших школьный курс данного предмета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на базовом уровне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2. Документ, определяющий содержание ВП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Федеральный компонент государственного образовательного стандарта среднего (полного) общего образования по предмету, базовый уровень (приказ Минобразования России от 05.03.2004 № 1089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3. Время выполнения работы – 90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подходы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разработке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4. Уровни сложности зад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базовый уровень  (порядка 60% от максимального балл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овышенный уровень (порядка 40% от максимального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5. Формы заданий – с кратким и развернутым ответом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(используются модели, не предназначенные для бланковой технологии). Использование контекстных заданий и дополнительных справочных 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6.  Содержание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– наиболее значимые элементы содержания всех разделов предметного кур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7. Количество заданий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– до 20 заданий в вариа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000" y="1412640"/>
            <a:ext cx="79945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оверка групп ум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школьниками базовыми историческими знани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пыт применения историко-культурного подхода к оценке социальных явл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применять исторические знания для осмысления сущности общественных явл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искать, анализировать, сопоставлять и оценивать содержащуюся в различных источниках информацию о событиях и явлениях прошлого</a:t>
            </a:r>
            <a:r>
              <a:rPr b="0" lang="ru-RU" sz="16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15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</a:rPr>
              <a:t>история России с древнейших времён до наших дней и истории родного края.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Calibri"/>
              </a:rPr>
              <a:t>(Знания по всеобщей истории проверяются в работе только в контексте истории Росс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Calibri"/>
              </a:rPr>
              <a:t>знание учащимися истории, культуры родн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и культура родного края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533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тивность заданий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875280" cy="545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з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000" y="1483920"/>
            <a:ext cx="7994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Пять групп  заданий, оценивающих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Понимать смысл изученных физических понятий, величин, законов, мод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Описывать и объяснять физические явления и свойства т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Объяснять устройство и принцип действия технических объ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Делать выводы на основе экспериментальных данных, планировать иссле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Воспринимать и оценивать информацию физического содержания (работа с текст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Содерж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Проверка фундаментальных принципов и законов, наиболее значимых элементов содержания из всех разделов курса физ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марина</cp:lastModifiedBy>
  <dcterms:modified xsi:type="dcterms:W3CDTF">2016-10-28T05:16:37Z</dcterms:modified>
  <cp:revision>527</cp:revision>
  <dc:subject/>
  <dc:title>Презентация PowerPoint</dc:title>
</cp:coreProperties>
</file>